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4 videos, each are about 2 minutes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group of 3, then C &amp; D could be combined… Part C has lots of ch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62080" y="67932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06680"/>
            <a:ext cx="54864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 Create a graph, symbol, picture, word splash, poem, etc. that demonstrates the key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CDFC-1FBE-4C74-8240-4986B163E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7F0E-0389-46FD-B016-B50030640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5541-EE9D-428C-99DE-047B8ED69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B533-8B21-44C8-B2BB-5697F7EE13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F996-AA51-44AC-9008-55E4F478E4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38E8-D3F6-41AA-80A1-A02A3820A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A719-4F27-475E-AA57-CE5904CD1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F526-B6E9-41ED-9FA1-474064B1A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557E-588E-49C4-9D48-4DA40C38B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AABF-DCE2-48EA-BDD3-3DF6A634E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00FE-5722-4B19-B02D-21B75BE21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777F-B3E5-4DE1-9730-AF68C4D22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E7FC-13D6-4CAC-8947-372FF7CF98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F0DF-589F-4FCC-AB93-208B195F8D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 Breakou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Nottawas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to Video ~2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you respond effectively to this pair of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your suggested respons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19DD-7214-41A8-B996-F737C2BD58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samples of stud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how you will respond to this small group of students during tomorrow’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hematics will you focus 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you 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(s) will you a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one representative sample to share with the whole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FA36-D955-4524-BA8B-0BD4940CB0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esentativ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your response to thi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43FB-92E3-49DE-8A1E-921350A742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groups of students are in the same class.  Now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nage differentiated responses to the individuals and small groups in our class who have different lear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088B-3639-4B5A-8EAE-F81F373EBB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29000" y="16002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feel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F3B9-C3A3-4B79-AA62-EE08082D85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oday’s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31DF-F931-46E7-A66F-D4EBC1397C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characteristics of effec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question stems to be used when 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2A5E-DD44-4894-B0FA-C1BCB8AA57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5CD6-6717-4D82-9999-37A389D870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2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 and extend personal repertoire of strategies for responding to groups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strategies that facilitate multiple responses within a singl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athematical thinking in a range of responses to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DB87-2BB7-4C02-A086-4BB3BF2552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25DD-C236-4826-9E8E-DE2D4C3C9B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</a:t>
            </a: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Think/Pair/Share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77c29"/>
                </a:solidFill>
                <a:latin typeface="Arial"/>
              </a:rPr>
              <a:t>~ 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received feedback that really helped you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feedback look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i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2272-8675-443D-9928-7238C6ABA8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Z:\Clip Art\Sports\Cartoons (A - Ba)\Baseball - Coach 3.wmf"/>
          <p:cNvPicPr/>
          <p:nvPr/>
        </p:nvPicPr>
        <p:blipFill>
          <a:blip r:embed="rId1"/>
          <a:stretch/>
        </p:blipFill>
        <p:spPr>
          <a:xfrm>
            <a:off x="6248520" y="4419720"/>
            <a:ext cx="27460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</a:t>
            </a:r>
            <a:r>
              <a:rPr b="0" lang="en-US" sz="3600" spc="-1" strike="noStrike">
                <a:solidFill>
                  <a:srgbClr val="92d050"/>
                </a:solidFill>
                <a:latin typeface="Arial"/>
              </a:rPr>
              <a:t>Self Assessment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77c29"/>
                </a:solidFill>
                <a:latin typeface="Arial"/>
              </a:rPr>
              <a:t>~ 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B4BA-F6E6-4C93-B18A-D4E69EF31F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572240" cy="43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0" y="1143000"/>
            <a:ext cx="92880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8229600" y="1218960"/>
            <a:ext cx="62244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reate a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a group of 4 people based on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o is A, B, C, and D based on years of teach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least hair  through to D - mos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5D1A-34B3-44D0-B791-D3FB47118E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Z:\Clip Art\Clothing &amp; Accessories\Glasses\Eyeglasses 16.wmf"/>
          <p:cNvPicPr/>
          <p:nvPr/>
        </p:nvPicPr>
        <p:blipFill>
          <a:blip r:embed="rId1"/>
          <a:stretch/>
        </p:blipFill>
        <p:spPr>
          <a:xfrm>
            <a:off x="1371600" y="2743200"/>
            <a:ext cx="1266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Z:\Clip Art\Cartoons\Make Your Own! (A - Ha)\Ear 6.wmf"/>
          <p:cNvPicPr/>
          <p:nvPr/>
        </p:nvPicPr>
        <p:blipFill>
          <a:blip r:embed="rId2"/>
          <a:stretch/>
        </p:blipFill>
        <p:spPr>
          <a:xfrm>
            <a:off x="6858000" y="2292480"/>
            <a:ext cx="58104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Z:\Clip Art\People\Cartoons (Ma - Ma) 1\Man Running 02.wmf"/>
          <p:cNvPicPr/>
          <p:nvPr/>
        </p:nvPicPr>
        <p:blipFill>
          <a:blip r:embed="rId3"/>
          <a:stretch/>
        </p:blipFill>
        <p:spPr>
          <a:xfrm>
            <a:off x="4038480" y="2666880"/>
            <a:ext cx="116856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6640" y="228600"/>
            <a:ext cx="6319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earch Article ~1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318744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Feedback as Part of Formative Assessment (pp 1-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~ What the Research Shows (pp 3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~ Feedback Strategies and Content (pp 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~ Feedback and Grading (pp 7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4180-3783-4AA1-907C-B75E1538D4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1685880" cy="1884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33280" y="2376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Susan Brook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4"/>
          <p:cNvSpPr/>
          <p:nvPr/>
        </p:nvSpPr>
        <p:spPr>
          <a:xfrm>
            <a:off x="4495680" y="1676520"/>
            <a:ext cx="4496040" cy="1511280"/>
          </a:xfrm>
          <a:prstGeom prst="cloudCallout">
            <a:avLst>
              <a:gd name="adj1" fmla="val -47884"/>
              <a:gd name="adj2" fmla="val 4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characteristics of effective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are and Summarize ~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hat you read using a Round Robin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key characteristics of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choose a product that aligns with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product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ACB7-D319-44A3-AF0F-DCE4DE788A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9 students are responding to this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called A is 20% of a number called B. But A is 40% of 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B a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4826-8B3E-4606-9290-10EA508681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11T00:09:47Z</dcterms:modified>
  <cp:revision>26</cp:revision>
  <dc:subject/>
  <dc:title>&lt;Title&gt;</dc:title>
</cp:coreProperties>
</file>